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9.png" ContentType="image/png"/>
  <Override PartName="/ppt/media/image38.jpeg" ContentType="image/jpeg"/>
  <Override PartName="/ppt/media/image17.wmf" ContentType="image/x-wmf"/>
  <Override PartName="/ppt/media/image34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13.png" ContentType="image/png"/>
  <Override PartName="/ppt/media/image12.wmf" ContentType="image/x-wmf"/>
  <Override PartName="/ppt/media/image33.jpeg" ContentType="image/jpeg"/>
  <Override PartName="/ppt/media/image30.wmf" ContentType="image/x-wmf"/>
  <Override PartName="/ppt/media/image27.png" ContentType="image/png"/>
  <Override PartName="/ppt/media/image39.jpeg" ContentType="image/jpeg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31.jpeg" ContentType="image/jpeg"/>
  <Override PartName="/ppt/media/image10.wmf" ContentType="image/x-wmf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488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573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573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488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488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488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72400" cy="45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0328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24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4488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03280" y="4488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328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324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7240" y="3573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31560" y="3573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03280" y="4488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7240" y="4488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31560" y="4488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72400" cy="45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488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573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488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24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www.adsdigital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447920"/>
            <a:ext cx="83055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Marketing Digital</a:t>
            </a:r>
            <a:endParaRPr b="1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3520" y="3657600"/>
            <a:ext cx="81532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anley Lo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S Digit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lestra para Instituto Amanhã Novembro/2003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kt de Massa na Interne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que é Mkt de Mas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paganda para milhõ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tes próprios (brochurewar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n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tes de bus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05520" y="3657600"/>
            <a:ext cx="3490920" cy="2333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1168560" cy="108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86600" y="4281480"/>
            <a:ext cx="1219320" cy="1139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739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anne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uitas pessoas desistem da página porque não conseguem baixá-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usto por visualização X por cli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352680" y="4267080"/>
            <a:ext cx="2819520" cy="2057400"/>
            <a:chOff x="3352680" y="4267080"/>
            <a:chExt cx="2819520" cy="20574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3352680" y="4267080"/>
              <a:ext cx="2819520" cy="20574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>
              <a:off x="3352680" y="4267080"/>
              <a:ext cx="2792520" cy="306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75360" y="4573800"/>
              <a:ext cx="608040" cy="7984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5290200">
            <a:off x="4076280" y="369576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4724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Banners aind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sgotamento de banner (banner burnout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usuário já sabe onde fica e não olh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babilidade de clique num anúncio visto + de 3x &lt; 1% e em que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200400" y="3886200"/>
            <a:ext cx="3581280" cy="2576520"/>
            <a:chOff x="3200400" y="3886200"/>
            <a:chExt cx="3581280" cy="25765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3200400" y="3886200"/>
              <a:ext cx="3581280" cy="25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09880" y="5029200"/>
              <a:ext cx="2286000" cy="12952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Vantagens de Banners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posta de banners = 0,3 a 0,5% (resposta de mala direta = 0,1 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erve para fortalecer marca (memorizar): marca vista mais de 4x gera mais confianç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ich media (pirotecnia) nos banners pode alcançar taxa de conversão de 30%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ich media pode chamar a atenção e marketing vi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banners com interação podem conseguir 5 minutos do usuá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Janelas Pop-Up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ários fecham antes mesmo de ver o conteú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nelas por baix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uição visu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sto: R$ 50.000,0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 página principal d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581640" cy="2576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9920" y="3962520"/>
            <a:ext cx="14475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anners Móvei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sto: R$ 100.000, por 6h na pág. principal do U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3179880"/>
          </a:xfrm>
          <a:prstGeom prst="rect">
            <a:avLst/>
          </a:prstGeom>
          <a:ln w="0">
            <a:noFill/>
          </a:ln>
        </p:spPr>
      </p:pic>
      <p:pic>
        <p:nvPicPr>
          <p:cNvPr id="128" name="EUFELIZ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1006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ail Marke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ão é sp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 marketing de permiss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ssoa se cadastra e diz que quer receber informações (tipo newslett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Nos EUA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33% das pessoas cadastradas compram pelo s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% dos visitantes compra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parecer nas Buscas (Search Engines)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nder o funcionam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dastrar site ou esperar ser ach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em alguns sistemas de cadastro automático em vários mecanismos de bus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95280" y="4114800"/>
            <a:ext cx="6553440" cy="2397240"/>
            <a:chOff x="1295280" y="4114800"/>
            <a:chExt cx="6553440" cy="23972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2057400" cy="1940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5" name=""/>
            <p:cNvGraphicFramePr/>
            <p:nvPr/>
          </p:nvGraphicFramePr>
          <p:xfrm>
            <a:off x="2895480" y="4191120"/>
            <a:ext cx="2243160" cy="1842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480" y="4191120"/>
                      <a:ext cx="2243160" cy="18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5638680" y="4114800"/>
              <a:ext cx="129564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6553080" y="4572000"/>
              <a:ext cx="129564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5334120" y="4876920"/>
              <a:ext cx="1428480" cy="102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mo funcionam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tálogos X Robôs (ou Full Tex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tálogos (Ex: Yahoo, Cadê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-se submeter págin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icar o assunto (publicador ou especialist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bôs (Ex: AltaVista, Googl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bmeter ou páginas podem ser “encontradas” pelos robô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m índice de palavras, informando onde elas apare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icação automática pelos robô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ntuação do AltaVist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úmero de vezes que a palavra apar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lavras no títul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lavras nas primeiras linh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lavras em maiúsculas e negr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taTags (invisíveis): keywords/sub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idado com puniçõ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reve Currícul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fessor ULBRA e UCP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harel, mestre e doutor em Comput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tor da ADS Dig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adsdigital.com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ntuação do Googl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melhante ao AltaVista, mas também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álise de apontadores/links entre as páginas que contêm a palavra-cha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3886200"/>
            <a:ext cx="4572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572000"/>
            <a:ext cx="228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495680"/>
            <a:ext cx="228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410080"/>
            <a:ext cx="228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191120"/>
            <a:ext cx="228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5486400"/>
            <a:ext cx="228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57600" y="4495320"/>
            <a:ext cx="99072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4876920"/>
            <a:ext cx="2057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943240" y="4952880"/>
            <a:ext cx="15228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19720" y="4647960"/>
            <a:ext cx="38088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105520" y="4419360"/>
            <a:ext cx="83808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ntuação do Googl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álise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1587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3400560"/>
            <a:ext cx="2057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1623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4619160"/>
            <a:ext cx="2057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1600" y="418788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800600" y="3476160"/>
            <a:ext cx="21337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10080" y="3857760"/>
            <a:ext cx="2133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4619520"/>
            <a:ext cx="22096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5200" y="4086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b ou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elhorando Posicionamento no Googl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ar páginas com apontadores para s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gar banners nas páginas to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idado com puniçõ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as … patrocinadores em cim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presas “compram” palavras-cha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410080" cy="388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4952880"/>
            <a:ext cx="365760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em aponta para mim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k:www.minha-pagina.com.b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ite entender nossa posição no Goog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ite avaliar como estamos sendo vistos e por qu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nálise de termo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usados para busca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73356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  Hallowe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Costum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 Britney Spear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 Pumpki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KaZa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California Fi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7 Texas Chainsaw Massac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 Brooke Burk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9 Pamela Anders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0 Christma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632480" y="1946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421000"/>
            <a:ext cx="4267440" cy="37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F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 Clay Aik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3 Las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Dragonb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 The Matr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6 NAS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7 Kobe Bry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8 Christina Aguile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Hilary Du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 Final Fant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7600" y="149220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.Lycos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638680"/>
            <a:ext cx="20574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e Respond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tísticas sobre term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os compos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álise de tem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e Respondo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arro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s 541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 160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s rebaixados 99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s usados 779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s antigos 704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s turbinados 412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tos de carros 40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uguel de carros 11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o usado 101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Web Min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hecer comportamento do usuário W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tíst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 onde vêm os visitantes (domínios de orige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 que querem/procuram (páginas + visitada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ndo visitam (estatísticas por dia e horári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panhas reais aumentam visitas virtuai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que analisa quem compra pela Web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itantes têm comportamento diferente de compradores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arketing One-to-On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a Web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que é Mkt 1-to-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ertas personalizadas: 1 para cada pess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agine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ções em supermerc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erciais de T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238120" cy="1976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324480" y="4838760"/>
            <a:ext cx="1946520" cy="201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26668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sta apresentaçã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icando alguns tipos de marke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o são usados na W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cas para Marketing Dig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rramentas para Marketing Dig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istente Virtu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stNe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ersonalizaçã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gir como na quitanda da esqu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lização em massa com sistemas automát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Jeff Bezos, CEO da Amazon.com: “se eu tenho 3 milhões de clientes na Web, eu deveria ter 3 milhões de lojas na Web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istemas de Recomendaçã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erecer algo de forma preci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ing Direto ou de Precis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gmentação de clientes (agrupamento em class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ção de itens para cada grup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DARDOS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5080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empl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ndo Web Mining, descobre-se que “quem comprou câmera digital Sony pelo site, analisou antes as câmeras Samsung e Kodak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go … para a próxima pessoa que estiver analisando câmeras Samsung e Kodak no site …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iz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ificar informações apresentadas dando ênfase para câmera Son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omend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zer diretamente para a pessoa oferta da câmera Sony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mendaçõe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aseadas em conteúd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mendar objetos classificados no perfil do usuário: uso de taxonom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5811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2209680" y="3505320"/>
            <a:ext cx="3659040" cy="1447560"/>
            <a:chOff x="2209680" y="3505320"/>
            <a:chExt cx="3659040" cy="1447560"/>
          </a:xfrm>
        </p:grpSpPr>
        <p:grpSp>
          <p:nvGrpSpPr>
            <p:cNvPr id="204" name=""/>
            <p:cNvGrpSpPr/>
            <p:nvPr/>
          </p:nvGrpSpPr>
          <p:grpSpPr>
            <a:xfrm>
              <a:off x="3809880" y="3505320"/>
              <a:ext cx="2058840" cy="1447560"/>
              <a:chOff x="3809880" y="3505320"/>
              <a:chExt cx="2058840" cy="1447560"/>
            </a:xfrm>
          </p:grpSpPr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10600" y="4117680"/>
                <a:ext cx="1168200" cy="81612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5760" y="3505320"/>
                <a:ext cx="549360" cy="61236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5120" y="3505320"/>
                <a:ext cx="903600" cy="144756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09880" y="3505320"/>
                <a:ext cx="602280" cy="61236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</p:grpSp>
        <p:sp>
          <p:nvSpPr>
            <p:cNvPr id="209" name=""/>
            <p:cNvSpPr/>
            <p:nvPr/>
          </p:nvSpPr>
          <p:spPr>
            <a:xfrm>
              <a:off x="2209680" y="3809880"/>
              <a:ext cx="1371600" cy="838440"/>
            </a:xfrm>
            <a:prstGeom prst="leftArrow">
              <a:avLst>
                <a:gd name="adj1" fmla="val 55685"/>
                <a:gd name="adj2" fmla="val 7400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09880" y="5334120"/>
            <a:ext cx="3733920" cy="1523880"/>
            <a:chOff x="3809880" y="5334120"/>
            <a:chExt cx="3733920" cy="1523880"/>
          </a:xfrm>
        </p:grpSpPr>
        <p:grpSp>
          <p:nvGrpSpPr>
            <p:cNvPr id="211" name=""/>
            <p:cNvGrpSpPr/>
            <p:nvPr/>
          </p:nvGrpSpPr>
          <p:grpSpPr>
            <a:xfrm>
              <a:off x="3809880" y="5334120"/>
              <a:ext cx="2038320" cy="1523880"/>
              <a:chOff x="3809880" y="5334120"/>
              <a:chExt cx="2038320" cy="15238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09880" y="5334120"/>
                <a:ext cx="1197360" cy="97920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07240" y="5334120"/>
                <a:ext cx="840960" cy="152388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09880" y="6271560"/>
                <a:ext cx="1197360" cy="586080"/>
              </a:xfrm>
              <a:prstGeom prst="rect">
                <a:avLst/>
              </a:prstGeom>
              <a:ln w="38160">
                <a:solidFill>
                  <a:srgbClr val="3333cc"/>
                </a:solidFill>
                <a:miter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6172200" y="5638680"/>
              <a:ext cx="1371600" cy="838440"/>
            </a:xfrm>
            <a:prstGeom prst="rightArrow">
              <a:avLst>
                <a:gd name="adj1" fmla="val 44315"/>
                <a:gd name="adj2" fmla="val 74251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807320" y="5029200"/>
            <a:ext cx="110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mendaçõe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aseadas em aspectos sociai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mendar objetos relacionados a pessoas com características semelhantes (atributos, preferências, hábitos ou comportament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2286000" cy="1280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638680" y="3809880"/>
            <a:ext cx="189072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762120" y="5372280"/>
            <a:ext cx="3181320" cy="1485720"/>
            <a:chOff x="762120" y="5372280"/>
            <a:chExt cx="3181320" cy="148572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762120" y="5486400"/>
              <a:ext cx="13557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cafeteira" descr=""/>
            <p:cNvPicPr/>
            <p:nvPr/>
          </p:nvPicPr>
          <p:blipFill>
            <a:blip r:embed="rId4"/>
            <a:stretch/>
          </p:blipFill>
          <p:spPr>
            <a:xfrm>
              <a:off x="2819520" y="5372280"/>
              <a:ext cx="1123920" cy="14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2209680" y="4647960"/>
            <a:ext cx="4038840" cy="1523880"/>
            <a:chOff x="2209680" y="4647960"/>
            <a:chExt cx="4038840" cy="1523880"/>
          </a:xfrm>
        </p:grpSpPr>
        <p:sp>
          <p:nvSpPr>
            <p:cNvPr id="225" name=""/>
            <p:cNvSpPr/>
            <p:nvPr/>
          </p:nvSpPr>
          <p:spPr>
            <a:xfrm flipV="1">
              <a:off x="2209680" y="4647960"/>
              <a:ext cx="34290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962520" y="5105160"/>
              <a:ext cx="22860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267080" y="4114800"/>
            <a:ext cx="1295640" cy="533520"/>
          </a:xfrm>
          <a:prstGeom prst="leftRightArrow">
            <a:avLst>
              <a:gd name="adj1" fmla="val 50000"/>
              <a:gd name="adj2" fmla="val 483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arketing de Relacionament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que 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hecer cliente individualm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hecer tudo sobre o cliente (visão 360  grau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jetivos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horar atendimento (+ rápido, + eficien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hores ofertas (+ focadas, - desperdíci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mentar tempo de relacionamento (lifetime valu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istemas de CRM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stomer Relationship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dos cadastrais + preferências + hábi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uardar histór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etar dados em todos os touch po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amas de fideliz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uzar dados de vários touch po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ategorias de maior interess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57200" y="1828800"/>
            <a:ext cx="8457480" cy="4800600"/>
            <a:chOff x="457200" y="1828800"/>
            <a:chExt cx="8457480" cy="4800600"/>
          </a:xfrm>
        </p:grpSpPr>
        <p:grpSp>
          <p:nvGrpSpPr>
            <p:cNvPr id="234" name=""/>
            <p:cNvGrpSpPr/>
            <p:nvPr/>
          </p:nvGrpSpPr>
          <p:grpSpPr>
            <a:xfrm>
              <a:off x="468720" y="1831680"/>
              <a:ext cx="8432640" cy="4794480"/>
              <a:chOff x="468720" y="1831680"/>
              <a:chExt cx="8432640" cy="47944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8720" y="1831680"/>
                <a:ext cx="5288400" cy="732600"/>
                <a:chOff x="468720" y="1831680"/>
                <a:chExt cx="5288400" cy="7326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79240" y="1831680"/>
                  <a:ext cx="5065920" cy="73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tegorias  (fonte IBOPE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8720" y="1831680"/>
                  <a:ext cx="5288400" cy="73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757840" y="1831680"/>
                <a:ext cx="1571400" cy="732600"/>
                <a:chOff x="5757840" y="1831680"/>
                <a:chExt cx="1571400" cy="732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868360" y="1831680"/>
                  <a:ext cx="1350000" cy="73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ach (ativos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57840" y="1831680"/>
                  <a:ext cx="1571400" cy="73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329960" y="1831680"/>
                <a:ext cx="1571400" cy="732600"/>
                <a:chOff x="7329960" y="1831680"/>
                <a:chExt cx="1571400" cy="732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440480" y="1831680"/>
                  <a:ext cx="1350000" cy="73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po médi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29960" y="1831680"/>
                  <a:ext cx="1571400" cy="73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68720" y="2564280"/>
                <a:ext cx="5288400" cy="394920"/>
                <a:chOff x="468720" y="2564280"/>
                <a:chExt cx="5288400" cy="3949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79240" y="2564280"/>
                  <a:ext cx="50659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tes de busca/portais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8720" y="2564280"/>
                  <a:ext cx="5288400" cy="39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757840" y="2564280"/>
                <a:ext cx="1571400" cy="394920"/>
                <a:chOff x="5757840" y="2564280"/>
                <a:chExt cx="1571400" cy="3949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868360" y="2564280"/>
                  <a:ext cx="1350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57840" y="2564280"/>
                  <a:ext cx="1571400" cy="39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329960" y="2564280"/>
                <a:ext cx="1571400" cy="394920"/>
                <a:chOff x="7329960" y="2564280"/>
                <a:chExt cx="1571400" cy="394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440480" y="2564280"/>
                  <a:ext cx="1350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m0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329960" y="2564280"/>
                  <a:ext cx="1571400" cy="39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68720" y="2959560"/>
                <a:ext cx="5288400" cy="394560"/>
                <a:chOff x="468720" y="2959560"/>
                <a:chExt cx="5288400" cy="3945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79240" y="295956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lecom/inter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68720" y="295956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57840" y="2959560"/>
                <a:ext cx="1571400" cy="394560"/>
                <a:chOff x="5757840" y="2959560"/>
                <a:chExt cx="1571400" cy="394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868360" y="295956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6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57840" y="295956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329960" y="2959560"/>
                <a:ext cx="1571400" cy="394560"/>
                <a:chOff x="7329960" y="2959560"/>
                <a:chExt cx="1571400" cy="3945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440480" y="295956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m4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329960" y="295956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68720" y="3354480"/>
                <a:ext cx="5288400" cy="394560"/>
                <a:chOff x="468720" y="3354480"/>
                <a:chExt cx="5288400" cy="394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79240" y="335448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unidade online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8720" y="335448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757840" y="3354480"/>
                <a:ext cx="1571400" cy="394560"/>
                <a:chOff x="5757840" y="3354480"/>
                <a:chExt cx="1571400" cy="394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868360" y="335448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757840" y="335448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7329960" y="3354480"/>
                <a:ext cx="1571400" cy="394560"/>
                <a:chOff x="7329960" y="3354480"/>
                <a:chExt cx="1571400" cy="394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7440480" y="335448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m3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329960" y="335448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68720" y="3749400"/>
                <a:ext cx="5288400" cy="394560"/>
                <a:chOff x="468720" y="3749400"/>
                <a:chExt cx="5288400" cy="3945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9240" y="374940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tretenimento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8720" y="374940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757840" y="3749400"/>
                <a:ext cx="1571400" cy="394560"/>
                <a:chOff x="5757840" y="3749400"/>
                <a:chExt cx="1571400" cy="3945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868360" y="374940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57840" y="374940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329960" y="3749400"/>
                <a:ext cx="1571400" cy="394560"/>
                <a:chOff x="7329960" y="3749400"/>
                <a:chExt cx="1571400" cy="3945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440480" y="374940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m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29960" y="374940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68720" y="4144320"/>
                <a:ext cx="5288400" cy="394560"/>
                <a:chOff x="468720" y="4144320"/>
                <a:chExt cx="5288400" cy="3945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79240" y="414432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soal/business elec. e SW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8720" y="414432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757840" y="4144320"/>
                <a:ext cx="1571400" cy="394560"/>
                <a:chOff x="5757840" y="4144320"/>
                <a:chExt cx="1571400" cy="3945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68360" y="414432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757840" y="414432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329960" y="4144320"/>
                <a:ext cx="1571400" cy="394560"/>
                <a:chOff x="7329960" y="4144320"/>
                <a:chExt cx="1571400" cy="394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440480" y="414432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m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29960" y="414432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68720" y="4539240"/>
                <a:ext cx="5288400" cy="507240"/>
                <a:chOff x="468720" y="4539240"/>
                <a:chExt cx="5288400" cy="507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79240" y="4539240"/>
                  <a:ext cx="50659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anças/seguros/investimentos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8720" y="4539240"/>
                  <a:ext cx="528840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757840" y="4539240"/>
                <a:ext cx="1571400" cy="507240"/>
                <a:chOff x="5757840" y="4539240"/>
                <a:chExt cx="1571400" cy="507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68360" y="4539240"/>
                  <a:ext cx="135000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757840" y="4539240"/>
                  <a:ext cx="157140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7329960" y="4539240"/>
                <a:ext cx="1571400" cy="507240"/>
                <a:chOff x="7329960" y="4539240"/>
                <a:chExt cx="1571400" cy="507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440480" y="4539240"/>
                  <a:ext cx="135000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329960" y="4539240"/>
                  <a:ext cx="157140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68720" y="5046840"/>
                <a:ext cx="5288400" cy="394560"/>
                <a:chOff x="468720" y="5046840"/>
                <a:chExt cx="5288400" cy="394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79240" y="504684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r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68720" y="504684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757840" y="5046840"/>
                <a:ext cx="1571400" cy="394560"/>
                <a:chOff x="5757840" y="5046840"/>
                <a:chExt cx="1571400" cy="3945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868360" y="504684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757840" y="504684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329960" y="5046840"/>
                <a:ext cx="1571400" cy="394560"/>
                <a:chOff x="7329960" y="5046840"/>
                <a:chExt cx="1571400" cy="3945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440480" y="504684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m1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329960" y="504684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68720" y="5441400"/>
                <a:ext cx="5288400" cy="394920"/>
                <a:chOff x="468720" y="5441400"/>
                <a:chExt cx="5288400" cy="3949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79240" y="5441400"/>
                  <a:ext cx="50659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xo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68720" y="5441400"/>
                  <a:ext cx="5288400" cy="39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757840" y="5441400"/>
                <a:ext cx="1571400" cy="394920"/>
                <a:chOff x="5757840" y="5441400"/>
                <a:chExt cx="1571400" cy="3949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868360" y="5441400"/>
                  <a:ext cx="1350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757840" y="5441400"/>
                  <a:ext cx="1571400" cy="39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329960" y="5441400"/>
                <a:ext cx="1571400" cy="394920"/>
                <a:chOff x="7329960" y="5441400"/>
                <a:chExt cx="1571400" cy="3949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440480" y="5441400"/>
                  <a:ext cx="1350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m2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29960" y="5441400"/>
                  <a:ext cx="1571400" cy="39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68720" y="5836680"/>
                <a:ext cx="5288400" cy="394560"/>
                <a:chOff x="468720" y="5836680"/>
                <a:chExt cx="5288400" cy="394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79240" y="583668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ícias/informação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68720" y="583668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757840" y="5836680"/>
                <a:ext cx="1571400" cy="394560"/>
                <a:chOff x="5757840" y="5836680"/>
                <a:chExt cx="1571400" cy="3945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68360" y="583668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757840" y="583668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329960" y="5836680"/>
                <a:ext cx="1571400" cy="394560"/>
                <a:chOff x="7329960" y="5836680"/>
                <a:chExt cx="1571400" cy="3945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440480" y="583668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m2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329960" y="583668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68720" y="6231600"/>
                <a:ext cx="5288400" cy="394560"/>
                <a:chOff x="468720" y="6231600"/>
                <a:chExt cx="5288400" cy="3945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40" y="6231600"/>
                  <a:ext cx="5065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verno/sem fins lucrativos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68720" y="6231600"/>
                  <a:ext cx="5288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757840" y="6231600"/>
                <a:ext cx="1571400" cy="394560"/>
                <a:chOff x="5757840" y="6231600"/>
                <a:chExt cx="1571400" cy="3945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868360" y="623160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757840" y="623160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329960" y="6231600"/>
                <a:ext cx="1571400" cy="394560"/>
                <a:chOff x="7329960" y="6231600"/>
                <a:chExt cx="1571400" cy="394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440480" y="6231600"/>
                  <a:ext cx="13500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m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329960" y="6231600"/>
                  <a:ext cx="157140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457200" y="1828800"/>
              <a:ext cx="8457480" cy="4800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3276720"/>
            <a:ext cx="91440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91520" y="373392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4495680"/>
            <a:ext cx="83808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munidades Virtuais (CV)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era um público cativo e fi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gregado e conhecid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ntender os clientes permite traçar melhores estratégias para conquistar novos, manter os atuais ou retomar os inativ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mo criar uma CV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eúdo foc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r autoridade (conteúdo reconhecido e divulgad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sletters e fóru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adastr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do usuá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stimular a participação dos usuári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ncursos, promoções, álbum de fotos, comentár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x: receit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monstrar que ele é important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15 minutos de fama – Andy Warh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rodução sobre Marke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ing não é só publicidade e propaga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álise de mercad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entes e necess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orrentes e a sociedade em g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dutos e serviç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udo de marcas (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rand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ios de comunicação com o merc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ntreteniment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gos, brincadeiras, piadas, filmezinh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rve para BRAN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ulgar marca (chamariz eletrônico, como outdoo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ing viral (barato e confianç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talecer mar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ca sendo vista constantem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ca vista = marca lembrada = confianç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roveitar para apresentar produtos e serviç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ligência Competitiv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ar sites dos concorre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ar notícias sobre a empresa ou mercado ou ramo ou concorre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isar bases de dados de pate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Web Archiv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.archive.or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tórico da Web desde 199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ra com URL e ele mostra as páginas como estavam na época (cada an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ite entender evolução de determinados sites (ex: concorrent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erramentas par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arketing Digita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istentes Virtua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stNe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Assistentes Virtuais</a:t>
            </a: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O que é um 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Assistente Virtua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cebe pergunta em linguagem natural irrestrita e responde da mesma forma, consultando uma base de conhecim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362320" y="3809880"/>
          <a:ext cx="396216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809880"/>
                    <a:ext cx="396216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248520" y="3124080"/>
            <a:ext cx="2438280" cy="1447920"/>
          </a:xfrm>
          <a:prstGeom prst="wedgeEllipseCallout">
            <a:avLst>
              <a:gd name="adj1" fmla="val -97199"/>
              <a:gd name="adj2" fmla="val 299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1360" y="3398760"/>
            <a:ext cx="194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i ! Faç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a pergunta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inalidad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necer informaçõ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zer ofert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re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an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2352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saudacao inicial AD ADS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4438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Como funcion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600200" cy="1420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276720" y="4572000"/>
            <a:ext cx="1981080" cy="1600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Bas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27432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16240" y="373392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g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e respo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 flipH="1">
            <a:off x="7485120" y="1371600"/>
            <a:ext cx="1658880" cy="2362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5486400" y="3123720"/>
            <a:ext cx="22096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409720" y="2666880"/>
            <a:ext cx="22100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1280" y="21337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g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2720" y="3581280"/>
            <a:ext cx="20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0481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peci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822800" y="3581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352680" y="2514600"/>
          <a:ext cx="1905120" cy="12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14600"/>
                    <a:ext cx="19051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3733920" y="3809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Exempl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adastrando a pergun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e é Assistente Virtual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Responde perguntas co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 que é um Assistente Virtual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odes me explicar que é um Assistente Virtual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u gostaria de saber o que é um Assistente Virtual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Funcionalidad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ratamento de sinônim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ratamento de variações lingüíst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lo processo de stemming = redução de palavras a radica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mo funciona o AV = como é o funcionamento do A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 que é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arketing Digita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r a Internet e a Web (World Wide Web) par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blicidade e propaga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igência competitiva: coletar informações sobre mercado, concorrentes, tendênci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isar comportamento dos clientes e prosp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aliar a imagem da empresa perante socied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Funcionalidad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guntas para as quais não houver resposta serão armazenadas na ba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specialistas podem responder estas perguntas armazenando novos conhecim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ssim, a base de conhecimento vai aumentan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21337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verdana"/>
              </a:rPr>
              <a:t>Funcionalidad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Respostas em 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mite apresentar links para páginas e sites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mite envio de e-mail a partir do Assistente (tipo Fale Conosc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ferença para um Chatterbo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tterb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ter a conversação (Ex: Eliza, Ali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istente Virtu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onder perguntas sobre um assunto específ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724280" y="4952880"/>
            <a:ext cx="22100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erchandis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resentação de produtos e serviç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ertas aparecem quando usuário está em silên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895480" y="3581280"/>
            <a:ext cx="3733920" cy="2895840"/>
            <a:chOff x="2895480" y="3581280"/>
            <a:chExt cx="3733920" cy="2895840"/>
          </a:xfrm>
        </p:grpSpPr>
        <p:pic>
          <p:nvPicPr>
            <p:cNvPr id="394" name="mostrando_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373392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adesivo" descr=""/>
            <p:cNvPicPr/>
            <p:nvPr/>
          </p:nvPicPr>
          <p:blipFill>
            <a:blip r:embed="rId2"/>
            <a:stretch/>
          </p:blipFill>
          <p:spPr>
            <a:xfrm>
              <a:off x="2895480" y="3653280"/>
              <a:ext cx="1890000" cy="64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ntreteniment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ode funcionar como Chatterb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iverte e mantém convers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isite a seção Cases em www.adsdigital.com.b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 veja o Assistente para Turismo no 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rand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ulgar marca (marketing vir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talecer marca (Top of Min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ociar marca a interes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statísticas de Us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úmero de aces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o de convers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as mais procurados nas pergunt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aso Exempl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emplo: Tetê (anfitriã do Terceira Terç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terceiraterca.com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23097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133720" y="3106800"/>
            <a:ext cx="51051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statísticas Tetê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édia de 15 acessos por 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mpo médio de conversação = 4 minu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guns passam até 1 hora conversando com e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mas mais procurado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de ocor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ndo é o próximo encontr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de fica o Dado Bi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o chegar l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cisa comprar ingress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rár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ltura ger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s informações para usuár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ulgação da marca Terceir@Terç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ociação da marca com mercado de 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r que fazer Marketing Digita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51818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7 milhões de pessoas usam a Internet no Bras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840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FastNews</a:t>
            </a:r>
            <a:endParaRPr b="1" lang="en-US" sz="4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pping Seletivo de Informações da Web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pping de Informaçõ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sca automática de notíc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uário não precisa visitar s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stema notifica quando chega algo novo e interessa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ção do dól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isão do Temp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bimento por e-mail ou no cel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pping Seletiv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ão receber tudo ou qualquer inform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ção por interes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necimento de palavras-chave + combinaçõ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pecificação de dia/horário para receb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erfi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17" name="dados%20pessoais" descr=""/>
          <p:cNvPicPr/>
          <p:nvPr/>
        </p:nvPicPr>
        <p:blipFill>
          <a:blip r:embed="rId1"/>
          <a:stretch/>
        </p:blipFill>
        <p:spPr>
          <a:xfrm>
            <a:off x="206280" y="1676520"/>
            <a:ext cx="89377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nsulta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19" name="nova%20consulta" descr=""/>
          <p:cNvPicPr/>
          <p:nvPr/>
        </p:nvPicPr>
        <p:blipFill>
          <a:blip r:embed="rId1"/>
          <a:stretch/>
        </p:blipFill>
        <p:spPr>
          <a:xfrm>
            <a:off x="217440" y="1752480"/>
            <a:ext cx="89265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specificação de Consulta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8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lavra_1  palavra_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nciona como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lavra_1  OR palavra_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lavra_1  palavra_2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ressões e palavras compost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lavra_1  -palavra_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lavras negativas: não podem aparec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lavr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riações lingüísticas (palavrão, palavrinha, et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eleção de Font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23" name="nova%20consulta%20parte%20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9724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tação do Dólar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25" name="dolar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093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revisão do Temp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27" name="previsão%20do%20tempo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10396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istóric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29" name="historico" descr=""/>
          <p:cNvPicPr/>
          <p:nvPr/>
        </p:nvPicPr>
        <p:blipFill>
          <a:blip r:embed="rId1"/>
          <a:stretch/>
        </p:blipFill>
        <p:spPr>
          <a:xfrm>
            <a:off x="0" y="1752480"/>
            <a:ext cx="89265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r que fazer Marketing Digita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eduz cus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x: uma transação bancária custa (em dólar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a agência = 1,0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lo telefone = 0,5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o caixa eletrônico = 0,2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la Internet = 0,1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28065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plicações para Marke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amento de notíci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o merc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concorren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nossa empresa (como está sendo vist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novos produtos e serviç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editais e licitaçõ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m Brev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vimento nas estrad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lsa de val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ário poderá definir que site quer monitorar (para inteligência competitiv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onitoramento de Sit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ário indica qual site quer monitorar (UR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ário seleciona área do site para monitor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stema avisa o usuário quando houver mudanç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nde usar ?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onível de graça no Portal Descoberta de Conheci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descobertadeconhecimento.com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ntato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066320" y="3573000"/>
            <a:ext cx="71629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tanley@adsdigital.com.b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www.adsdigital.com.b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endimento@adsdigital.com.b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r que fazer Marketing Digita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úblico médio da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ade entre 15 e 50 an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nda entre 3 e 9 m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ação superior completa ou em andam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o e inform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sta de novidades tecnológicas 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gadge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80000" y="304560"/>
            <a:ext cx="536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eguir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mos examinar algumas técnicas para Marketing Dig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9:02:16Z</dcterms:created>
  <dc:creator>Stanley Loh</dc:creator>
  <dc:description/>
  <dc:language>en-US</dc:language>
  <cp:lastModifiedBy>Stanley Loh</cp:lastModifiedBy>
  <dcterms:modified xsi:type="dcterms:W3CDTF">2003-11-12T11:44:48Z</dcterms:modified>
  <cp:revision>288</cp:revision>
  <dc:subject/>
  <dc:title>Marketing Digital</dc:title>
</cp:coreProperties>
</file>